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6C1-2150-4852-BE92-BDB5B7A2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D8CA-1BAF-48E3-981A-7BE3959D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189-8A6A-4FAA-9D8A-54E9BB19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E4E-6AE4-4E08-BB7D-E0DC1E2E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251-C08B-43DB-A6C5-615F766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D44-DC90-4FB0-BEBF-BF83A7C6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903-B6F9-49CF-BD0A-329ED6F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E73-905B-4398-B43C-279F9BF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85F-2607-4A10-A28C-008F742D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DD6-2EDE-4643-BDD4-8F534521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3CC-359B-49BF-907C-0DAE53C9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B3A-4E15-4C14-A7DA-4308B5B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55B-935E-4A8E-BB6F-63C6B9A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559-F08E-4AFE-BED1-2E7D75D6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C36C-0F22-4B6D-B03D-61375964E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o 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88620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niñ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819520" y="320040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y yo estoy bien 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Dan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buenos días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551524_497579363608127_481304548_n.jpg"/>
          <p:cNvPicPr/>
          <p:nvPr/>
        </p:nvPicPr>
        <p:blipFill>
          <a:blip r:embed="rId1"/>
          <a:stretch/>
        </p:blipFill>
        <p:spPr>
          <a:xfrm>
            <a:off x="1295280" y="5257800"/>
            <a:ext cx="457200" cy="45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523313_239856676136473_1638055208_n.jpg"/>
          <p:cNvPicPr/>
          <p:nvPr/>
        </p:nvPicPr>
        <p:blipFill>
          <a:blip r:embed="rId2"/>
          <a:stretch/>
        </p:blipFill>
        <p:spPr>
          <a:xfrm>
            <a:off x="1522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530082_369537476424823_1322781097_n.jpg"/>
          <p:cNvPicPr/>
          <p:nvPr/>
        </p:nvPicPr>
        <p:blipFill>
          <a:blip r:embed="rId3"/>
          <a:stretch/>
        </p:blipFill>
        <p:spPr>
          <a:xfrm>
            <a:off x="762120" y="5257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5"/>
          <p:cNvSpPr/>
          <p:nvPr/>
        </p:nvSpPr>
        <p:spPr>
          <a:xfrm>
            <a:off x="152280" y="571500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le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6"/>
          <p:cNvSpPr/>
          <p:nvPr/>
        </p:nvSpPr>
        <p:spPr>
          <a:xfrm>
            <a:off x="228600" y="6400800"/>
            <a:ext cx="10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7" descr="431532_276146949128953_1337986109_n.jpg"/>
          <p:cNvPicPr/>
          <p:nvPr/>
        </p:nvPicPr>
        <p:blipFill>
          <a:blip r:embed="rId4"/>
          <a:stretch/>
        </p:blipFill>
        <p:spPr>
          <a:xfrm>
            <a:off x="1117440" y="160020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188486_305310389581798_1915360673_n.jpg"/>
          <p:cNvPicPr/>
          <p:nvPr/>
        </p:nvPicPr>
        <p:blipFill>
          <a:blip r:embed="rId5"/>
          <a:stretch/>
        </p:blipFill>
        <p:spPr>
          <a:xfrm>
            <a:off x="3182760" y="3429000"/>
            <a:ext cx="1603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0:05Z</dcterms:created>
  <dc:creator>FriscoISD</dc:creator>
  <dc:description/>
  <dc:language>en-US</dc:language>
  <cp:lastModifiedBy>NYCDOE</cp:lastModifiedBy>
  <dcterms:modified xsi:type="dcterms:W3CDTF">2012-12-05T14:05:13Z</dcterms:modified>
  <cp:revision>103</cp:revision>
  <dc:subject/>
  <dc:title>Profile</dc:title>
</cp:coreProperties>
</file>